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FB056-8D75-4378-AF16-10C015C9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315FC-5330-4573-A6EE-C88EE3C1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41CD5-517F-4729-B95F-ACAE3208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0FB75-488B-4AEC-B458-73D2E2B6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43EE-4C19-4A3F-9280-0670787B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35CF-BC71-4058-ADA3-0CD47E16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EC94-6E8E-4371-95ED-86EB2AC5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34A5-CB69-4B72-82C5-2E78044E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A7FD-654E-44AB-A3EB-B5D5FDD3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54F6-D947-46CA-A2DE-7A25B34D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7370-A187-45D8-B346-35E882FF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84B59-3DE2-4095-95C5-6636EB05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8C85-010A-4675-8F68-730726D3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E3EA-C4E6-4E2A-BFFC-A54E7739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705E-1A2C-4C6E-9E57-5B24B4DC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4273-5059-4CD7-A9CC-724C35D2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B1A8-460F-427E-8CAF-A68277AF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81E73-646E-466B-8FBF-0BD7BE99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D59DC-D335-4FAD-B287-114CD152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10C39-82B5-4CC1-A76D-F0BFA6C8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84E30-20B3-4A58-ABED-FA8DEEDF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BD1ED-25C5-4C9C-A677-44AAE189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FD177-2D0F-45D1-B301-8A9A375F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E4401-FB69-4888-BA7C-8A23971E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9DE7-393B-4BF4-A91C-F49F7D0F889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35FB-6B83-4E2A-B1A2-07308BC5D20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087560" y="1359720"/>
            <a:ext cx="11279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2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67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оето Слово, Господи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мен безцен е дар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ред тъмни бури и беди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то е сигурен фар! :]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99120" y="2226600"/>
            <a:ext cx="770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ъв него грее любовт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 най-свят, божествен плам.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а всички болки на свет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лека намирам там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987840" y="1777680"/>
            <a:ext cx="725724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ъкровище е без цена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 нищо не руши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живот, храна и светлина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за грешните души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609840" y="1777680"/>
            <a:ext cx="800964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Боже, нека то и мен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води в пътя Твой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чиста святост, път блажен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към вечния покой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24T15:14:31Z</dcterms:modified>
  <cp:revision>12</cp:revision>
  <dc:subject/>
  <dc:title>Slide 1</dc:title>
</cp:coreProperties>
</file>